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E5BE-0986-4538-AC31-2E431259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F075-C1E0-42C3-8B90-8360278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9352-D2E7-4789-AAE9-08774DA6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DB00-BEE6-42CA-AAC1-D5B1625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7E9B-8646-446A-A3F2-FD5EACCF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394-2432-42DC-8C16-6A1A126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728-1A25-4FA2-8B79-3E95D6AE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0BC-649F-4830-974F-95EBCBD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B25-62D5-4FF3-8297-CBA52F4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2F51-AF9D-4AE1-B063-6E9C7008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EC3-1F5A-4369-8633-D227EB40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FD08-7EF6-4B66-89BD-15974F8D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BDD1-5DD6-4682-9BC7-F899CFB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3EF5-BAD5-48EC-97B4-24921E9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7D7-0DB4-48D2-B33A-F40B426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E32B-5678-443D-BA3A-C31005E7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C897-0E61-4E51-B594-BED8E913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17DD-38DD-4596-B796-3E10517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B9D7-CA92-4375-B73F-8DB372C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5AAC-1CF1-479F-8705-F14E84C9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BA1A-0C72-4A53-A807-A5D5681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C668-3152-4938-A3FE-2F1343D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E5E1-F22F-47A8-A08F-B53D854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C665-7313-45BC-89D8-09392EC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CA2-9C5C-4251-8150-60578EDADA0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1DC-E5EC-4FE3-99F2-36302EA9D54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0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9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6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Господния ангел е окол`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ни пази и закриля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кол` нас - ще Му се боим ден и н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га води Ти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веди ме в рай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05488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Когато ние сме във опасно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ще дойде, да, ще дой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ще вземе нас под Своите крил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га води Ти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веди ме в рай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05416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, Боже наш, води ни Ти вс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 в родината да стигне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се мярка пред очи ни близо веч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га води Ти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тълбе от огъ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лачни стъл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веди ме в рай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3:44Z</dcterms:modified>
  <cp:revision>132</cp:revision>
  <dc:subject/>
  <dc:title>Slide 1</dc:title>
</cp:coreProperties>
</file>